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467480" y="299520"/>
            <a:ext cx="960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2"/>
          <p:cNvSpPr/>
          <p:nvPr/>
        </p:nvSpPr>
        <p:spPr>
          <a:xfrm>
            <a:off x="6931080" y="299880"/>
            <a:ext cx="140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Special Need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decision-making vocabular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king decisions means thinking about choices and predicting consequences. Sometimes it means taking risks and giving up things we wa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trying to choose between two alternatives. Should you buy a CD or go out for pizza? You have enough money to do only one. The enjoyment you get from a CD might last longer than the enjoyment of eating pizza. You decide to give up going out for pizza. What is the cost of your decision called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666480" y="6323400"/>
            <a:ext cx="199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1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is the problem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do I know about this problem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are my alternative choices for solving this problem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are the consequences of each of my choices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is the best choice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id I make a good choice? How do I know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675120" y="6323400"/>
            <a:ext cx="199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2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facts of the matt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 live in an Information Age. There are many places to find advice and inform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re would YOU go for help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agazines and boo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pub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675120" y="6323400"/>
            <a:ext cx="199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3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re are many ways to make a decision. Some strategies work better than others. Which of these do you us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dy and magazines are often on display at the supermarket checkout. What decision-making strategy does the store hope you will us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675120" y="6323400"/>
            <a:ext cx="199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4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fore you make a decision about money, what do you need to know about our econom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mployment r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have enough money to buy a CD player you want. Should you cash the birthday check that your grandmother gave you? Your parents want you to put that check into a savings account. What economic conditions should you think about before you make this decision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602760" y="6323400"/>
            <a:ext cx="20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5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decision-making ris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WARE: making choices about money can be risky! What are some risks that you should think about before you make a final decision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worked hard over the past year and earned about half of the money that you’ll need to buy a used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you put your money in a savings account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you keep working until you’ve saved the full amount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you take out a loan and buy the car now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risks might there b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60780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5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1T21:23:29Z</dcterms:modified>
  <cp:revision>25</cp:revision>
  <dc:subject/>
  <dc:title>lesson three</dc:title>
</cp:coreProperties>
</file>