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C8FD-9401-4C6C-94DF-028A9704F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9BD8-443F-4A12-A9BA-B646DDA9A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1C87-09A6-4ACA-B981-D7477DF15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A3CB-3715-4C73-B7B9-E2F1C09F2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1A52-1B01-4E60-98D9-80BC632E1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57C7-6ABF-4211-A830-DE016C860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eight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70646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768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 1/2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02972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703224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 Some of the most comm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061400" y="6323400"/>
            <a:ext cx="166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0581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 … at % interest … in 10 years you’ll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.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7544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4016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6576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28:34Z</dcterms:modified>
  <cp:revision>54</cp:revision>
  <dc:subject/>
  <dc:title>lesson three</dc:title>
</cp:coreProperties>
</file>