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C027-6CAA-47B1-87E0-AF8B4EFFF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C81A-E2A7-4D7C-AB3D-8D8C771CF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A956-2C12-4080-A367-E090529B1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E91C-8664-4DF8-A1B2-4BB782819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7C5D-399A-42D5-A664-13C7D997B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7582-47C8-421D-88E8-53C456A61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i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00560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73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914520" y="6323400"/>
            <a:ext cx="179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97240" y="6323400"/>
            <a:ext cx="179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redit Counseling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00884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23:16Z</dcterms:modified>
  <cp:revision>33</cp:revision>
  <dc:subject/>
  <dc:title>lesson three</dc:title>
</cp:coreProperties>
</file>